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343-E07E-4AC9-A3CB-A45D89C1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696-B5BD-4376-9E66-EE04C065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1E7-A204-40E6-9874-C0BE2B54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DE7-CE17-4095-8E3F-201708A6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687-724D-4AB3-8FB5-A1429A6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47C-E850-4A78-BA65-3FDFF21E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0FE-0CAE-4DB7-AEBE-9A8C857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4BB-02BC-444A-911C-C2AFC747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70B-2096-47BC-ADE1-BD8D587C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AB2-C1FC-4B32-9933-E1D619E1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437-0AA6-4DF4-853E-FD605A32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1E5-115C-4BF4-887F-06084B8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78C9-ED91-49FA-BD05-C3AF3388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EDA.html" TargetMode="External"/><Relationship Id="rId3" Type="http://schemas.openxmlformats.org/officeDocument/2006/relationships/hyperlink" Target="file:///../../../Protege/html%20files/Feature%20Analysis.html" TargetMode="External"/><Relationship Id="rId4" Type="http://schemas.openxmlformats.org/officeDocument/2006/relationships/hyperlink" Target="file:///../../../Protege/html%20files/Genomic%20&amp;%20Phenotypic%20%20Data%20Analysis.html" TargetMode="External"/><Relationship Id="rId5" Type="http://schemas.openxmlformats.org/officeDocument/2006/relationships/hyperlink" Target="file:///../../../Protege/html%20files/Image%20Processing.html" TargetMode="External"/><Relationship Id="rId6" Type="http://schemas.openxmlformats.org/officeDocument/2006/relationships/hyperlink" Target="file:///../../../Protege/html%20files/Image%20Processing.html#direct_instances" TargetMode="External"/><Relationship Id="rId7" Type="http://schemas.openxmlformats.org/officeDocument/2006/relationships/hyperlink" Target="file:///../../../Protege/html%20files/Network%20characterization.html" TargetMode="External"/><Relationship Id="rId8" Type="http://schemas.openxmlformats.org/officeDocument/2006/relationships/hyperlink" Target="file:///../../../Protege/html%20files/Pre-Processing.html" TargetMode="External"/><Relationship Id="rId9" Type="http://schemas.openxmlformats.org/officeDocument/2006/relationships/hyperlink" Target="file:///../../../Protege/html%20files/Regulatory_Signaling%20network%20reconstruction.html" TargetMode="External"/><Relationship Id="rId10" Type="http://schemas.openxmlformats.org/officeDocument/2006/relationships/hyperlink" Target="file:///../../../Protege/html%20files/Sequence%20Annotation.html" TargetMode="External"/><Relationship Id="rId11" Type="http://schemas.openxmlformats.org/officeDocument/2006/relationships/hyperlink" Target="file:///../../../Protege/html%20files/Simulation.html" TargetMode="External"/><Relationship Id="rId12" Type="http://schemas.openxmlformats.org/officeDocument/2006/relationships/hyperlink" Target="file:///../../../Protege/html%20files/Software%20Engineering%20and%20Development%20Tools.html" TargetMode="External"/><Relationship Id="rId13" Type="http://schemas.openxmlformats.org/officeDocument/2006/relationships/hyperlink" Target="file:///../../../Protege/html%20files/Statistical%20Analysis.html" TargetMode="External"/><Relationship Id="rId14" Type="http://schemas.openxmlformats.org/officeDocument/2006/relationships/hyperlink" Target="file:///../../../Protege/html%20files/Structure-based%20protein%20classification.html" TargetMode="External"/><Relationship Id="rId15" Type="http://schemas.openxmlformats.org/officeDocument/2006/relationships/hyperlink" Target="file:///../../../Protege/html%20files/Toolkits.html" TargetMode="External"/><Relationship Id="rId16" Type="http://schemas.openxmlformats.org/officeDocument/2006/relationships/hyperlink" Target="file:///../../../Protege/html%20files/Toolkits.html#direct_instances" TargetMode="External"/><Relationship Id="rId17" Type="http://schemas.openxmlformats.org/officeDocument/2006/relationships/hyperlink" Target="file:///../../../Protege/html%20files/User%20and%20developer%20documentation.html" TargetMode="External"/><Relationship Id="rId18" Type="http://schemas.openxmlformats.org/officeDocument/2006/relationships/hyperlink" Target="file:///../../../Protege/html%20files/Visualization.html" TargetMode="External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EDA.html" TargetMode="External"/><Relationship Id="rId3" Type="http://schemas.openxmlformats.org/officeDocument/2006/relationships/hyperlink" Target="file:///../../../Protege/html%20files/Feature%20Analysis.html" TargetMode="External"/><Relationship Id="rId4" Type="http://schemas.openxmlformats.org/officeDocument/2006/relationships/hyperlink" Target="file:///../../../Protege/html%20files/Shape%20Analysis.html" TargetMode="External"/><Relationship Id="rId5" Type="http://schemas.openxmlformats.org/officeDocument/2006/relationships/hyperlink" Target="file:///../../../Protege/html%20files/Pattern%20Recognition.html" TargetMode="External"/><Relationship Id="rId6" Type="http://schemas.openxmlformats.org/officeDocument/2006/relationships/hyperlink" Target="file:///../../../Protege/html%20files/Genomic%20&amp;%20Phenotypic%20%20Data%20Analysis.html" TargetMode="External"/><Relationship Id="rId7" Type="http://schemas.openxmlformats.org/officeDocument/2006/relationships/hyperlink" Target="file:///../../../Protege/html%20files/Image%20Processing.html" TargetMode="External"/><Relationship Id="rId8" Type="http://schemas.openxmlformats.org/officeDocument/2006/relationships/hyperlink" Target="file:///../../../Protege/html%20files/Image%20Processing.html#direct_instances" TargetMode="External"/><Relationship Id="rId9" Type="http://schemas.openxmlformats.org/officeDocument/2006/relationships/hyperlink" Target="file:///../../../Protege/html%20files/Atlas%20Generation.html" TargetMode="External"/><Relationship Id="rId10" Type="http://schemas.openxmlformats.org/officeDocument/2006/relationships/hyperlink" Target="file:///../../../Protege/html%20files/Cortical%20Modeling.html" TargetMode="External"/><Relationship Id="rId11" Type="http://schemas.openxmlformats.org/officeDocument/2006/relationships/hyperlink" Target="file:///../../../Protege/html%20files/Registration.html" TargetMode="External"/><Relationship Id="rId12" Type="http://schemas.openxmlformats.org/officeDocument/2006/relationships/hyperlink" Target="file:///../../../Protege/html%20files/Segmentation.html" TargetMode="External"/><Relationship Id="rId13" Type="http://schemas.openxmlformats.org/officeDocument/2006/relationships/hyperlink" Target="file:///../../../Protege/html%20files/Network%20characterization.html" TargetMode="External"/><Relationship Id="rId14" Type="http://schemas.openxmlformats.org/officeDocument/2006/relationships/hyperlink" Target="file:///../../../Protege/html%20files/Pre-Processing.html" TargetMode="External"/><Relationship Id="rId15" Type="http://schemas.openxmlformats.org/officeDocument/2006/relationships/hyperlink" Target="file:///../../../Protege/html%20files/Data%20Transforms.html" TargetMode="External"/><Relationship Id="rId16" Type="http://schemas.openxmlformats.org/officeDocument/2006/relationships/hyperlink" Target="file:///../../../Protege/html%20files/Spectral%20Transforms.html" TargetMode="External"/><Relationship Id="rId17" Type="http://schemas.openxmlformats.org/officeDocument/2006/relationships/hyperlink" Target="file:///../../../Protege/html%20files/Fourier%20Transform.html" TargetMode="External"/><Relationship Id="rId18" Type="http://schemas.openxmlformats.org/officeDocument/2006/relationships/hyperlink" Target="file:///../../../Protege/html%20files/Wavelet%20Transform.html" TargetMode="External"/><Relationship Id="rId19" Type="http://schemas.openxmlformats.org/officeDocument/2006/relationships/hyperlink" Target="file:///../../../Protege/html%20files/Filtering.html" TargetMode="External"/><Relationship Id="rId20" Type="http://schemas.openxmlformats.org/officeDocument/2006/relationships/hyperlink" Target="file:///../../../Protege/html%20files/Skull%20Stripping.html" TargetMode="External"/><Relationship Id="rId21" Type="http://schemas.openxmlformats.org/officeDocument/2006/relationships/hyperlink" Target="file:///../../../Protege/html%20files/Inhomogeneity%20Correction.html" TargetMode="External"/><Relationship Id="rId22" Type="http://schemas.openxmlformats.org/officeDocument/2006/relationships/hyperlink" Target="file:///../../../Protege/html%20files/Inhomogeneity%20Correction.html" TargetMode="External"/><Relationship Id="rId2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Regulatory_Signaling%20network%20reconstruction.html" TargetMode="External"/><Relationship Id="rId3" Type="http://schemas.openxmlformats.org/officeDocument/2006/relationships/hyperlink" Target="file:///../../../Protege/html%20files/Sequence%20Annotation.html" TargetMode="External"/><Relationship Id="rId4" Type="http://schemas.openxmlformats.org/officeDocument/2006/relationships/hyperlink" Target="file:///../../../Protege/html%20files/Simulation.html" TargetMode="External"/><Relationship Id="rId5" Type="http://schemas.openxmlformats.org/officeDocument/2006/relationships/hyperlink" Target="file:///../../../Protege/html%20files/Software%20Engineering%20and%20Development%20Tools.html" TargetMode="External"/><Relationship Id="rId6" Type="http://schemas.openxmlformats.org/officeDocument/2006/relationships/hyperlink" Target="file:///../../../Protege/html%20files/Cross-LanguageWrapping.html" TargetMode="External"/><Relationship Id="rId7" Type="http://schemas.openxmlformats.org/officeDocument/2006/relationships/hyperlink" Target="file:///../../../Protege/html%20files/Cross-LanguageWrapping.html" TargetMode="External"/><Relationship Id="rId8" Type="http://schemas.openxmlformats.org/officeDocument/2006/relationships/hyperlink" Target="file:///../../../Protege/html%20files/Cross-LanguageWrapping.html#direct_instances" TargetMode="External"/><Relationship Id="rId9" Type="http://schemas.openxmlformats.org/officeDocument/2006/relationships/hyperlink" Target="file:///../../../Protege/html%20files/Cross-Platform%20Tools.html" TargetMode="External"/><Relationship Id="rId10" Type="http://schemas.openxmlformats.org/officeDocument/2006/relationships/hyperlink" Target="file:///../../../Protege/html%20files/Cross-Platform%20Tools.html#direct_instances" TargetMode="External"/><Relationship Id="rId11" Type="http://schemas.openxmlformats.org/officeDocument/2006/relationships/hyperlink" Target="file:///../../../Protege/html%20files/Integration.html" TargetMode="External"/><Relationship Id="rId12" Type="http://schemas.openxmlformats.org/officeDocument/2006/relationships/hyperlink" Target="file:///../../../Protege/html%20files/Graphical%20e.g.,%20HIVE%20Pipeline.html" TargetMode="External"/><Relationship Id="rId13" Type="http://schemas.openxmlformats.org/officeDocument/2006/relationships/hyperlink" Target="file:///../../../Protege/html%20files/Grid%20Computing%20Resources.html" TargetMode="External"/><Relationship Id="rId14" Type="http://schemas.openxmlformats.org/officeDocument/2006/relationships/hyperlink" Target="file:///../../../Protege/html%20files/Mappers%20e.g.,%20BrainGraph%20BrainMapper.html" TargetMode="External"/><Relationship Id="rId15" Type="http://schemas.openxmlformats.org/officeDocument/2006/relationships/hyperlink" Target="file:///../../../Protege/html%20files/Mappers%20e.g.,%20BrainGraph%20BrainMapper.html" TargetMode="External"/><Relationship Id="rId16" Type="http://schemas.openxmlformats.org/officeDocument/2006/relationships/hyperlink" Target="file:///../../../Protege/html%20files/Mappers%20e.g.,%20BrainGraph%20BrainMapper.html" TargetMode="External"/><Relationship Id="rId17" Type="http://schemas.openxmlformats.org/officeDocument/2006/relationships/hyperlink" Target="file:///../../../Protege/html%20files/Mappers%20e.g.,%20BrainGraph%20BrainMapper.html" TargetMode="External"/><Relationship Id="rId18" Type="http://schemas.openxmlformats.org/officeDocument/2006/relationships/hyperlink" Target="file:///../../../Protege/html%20files/Mappers%20e.g.,%20BrainGraph%20BrainMapper.html" TargetMode="External"/><Relationship Id="rId19" Type="http://schemas.openxmlformats.org/officeDocument/2006/relationships/hyperlink" Target="file:///../../../Protege/html%20files/Portals.html" TargetMode="External"/><Relationship Id="rId20" Type="http://schemas.openxmlformats.org/officeDocument/2006/relationships/hyperlink" Target="file:///../../../Protege/html%20files/Resource%20Integration%20Components.html" TargetMode="External"/><Relationship Id="rId21" Type="http://schemas.openxmlformats.org/officeDocument/2006/relationships/hyperlink" Target="file:///../../../Protege/html%20files/Testing%20Tools.html" TargetMode="External"/><Relationship Id="rId22" Type="http://schemas.openxmlformats.org/officeDocument/2006/relationships/hyperlink" Target="file:///../../../Protege/html%20files/Testing%20Tools.html#direct_instances" TargetMode="External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Statistical%20Analysis.html" TargetMode="External"/><Relationship Id="rId3" Type="http://schemas.openxmlformats.org/officeDocument/2006/relationships/hyperlink" Target="file:///../../../Protege/html%20files/E.g.,%20R.html" TargetMode="External"/><Relationship Id="rId4" Type="http://schemas.openxmlformats.org/officeDocument/2006/relationships/hyperlink" Target="file:///../../../Protege/html%20files/Structure-based%20protein%20classification.html" TargetMode="External"/><Relationship Id="rId5" Type="http://schemas.openxmlformats.org/officeDocument/2006/relationships/hyperlink" Target="file:///../../../Protege/html%20files/Toolkits.html" TargetMode="External"/><Relationship Id="rId6" Type="http://schemas.openxmlformats.org/officeDocument/2006/relationships/hyperlink" Target="file:///../../../Protege/html%20files/Toolkits.html#direct_instances" TargetMode="External"/><Relationship Id="rId7" Type="http://schemas.openxmlformats.org/officeDocument/2006/relationships/hyperlink" Target="file:///../../../Protege/html%20files/User%20and%20developer%20documentation.html" TargetMode="External"/><Relationship Id="rId8" Type="http://schemas.openxmlformats.org/officeDocument/2006/relationships/hyperlink" Target="file:///../../../Protege/html%20files/Visualization.html" TargetMode="External"/><Relationship Id="rId9" Type="http://schemas.openxmlformats.org/officeDocument/2006/relationships/hyperlink" Target="file:///../../../Protege/html%20files/Clinical%20Charts%20e.g.,%20Demographics.html" TargetMode="External"/><Relationship Id="rId10" Type="http://schemas.openxmlformats.org/officeDocument/2006/relationships/hyperlink" Target="file:///../../../Protege/html%20files/Graph%20Viewers.html" TargetMode="External"/><Relationship Id="rId11" Type="http://schemas.openxmlformats.org/officeDocument/2006/relationships/hyperlink" Target="file:///../../../Protege/html%20files/Hyperbolic%20Graphs.html" TargetMode="External"/><Relationship Id="rId12" Type="http://schemas.openxmlformats.org/officeDocument/2006/relationships/hyperlink" Target="file:///../../../Protege/html%20files/Hierarchical%20Trees.html" TargetMode="External"/><Relationship Id="rId13" Type="http://schemas.openxmlformats.org/officeDocument/2006/relationships/hyperlink" Target="file:///../../../Protege/html%20files/Imaging.html" TargetMode="External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ata%20Management.html" TargetMode="External"/><Relationship Id="rId2" Type="http://schemas.openxmlformats.org/officeDocument/2006/relationships/hyperlink" Target="file:///../../../Protege/html%20files/Data%20Storage.html" TargetMode="External"/><Relationship Id="rId3" Type="http://schemas.openxmlformats.org/officeDocument/2006/relationships/hyperlink" Target="file:///../../../Protege/html%20files/Data%20Transfer.html" TargetMode="External"/><Relationship Id="rId4" Type="http://schemas.openxmlformats.org/officeDocument/2006/relationships/hyperlink" Target="file:///../../../Protege/html%20files/Information%20retrieval,%20traversal%20and%20querying.html" TargetMode="External"/><Relationship Id="rId5" Type="http://schemas.openxmlformats.org/officeDocument/2006/relationships/hyperlink" Target="file:///../../../Protege/html%20files/Ontology%20Development%20and%20Management.html" TargetMode="External"/><Relationship Id="rId6" Type="http://schemas.openxmlformats.org/officeDocument/2006/relationships/hyperlink" Target="file:///../../../Protege/html%20files/Data%20Annotation.html" TargetMode="External"/><Relationship Id="rId7" Type="http://schemas.openxmlformats.org/officeDocument/2006/relationships/hyperlink" Target="file:///../../../Protege/html%20files/Ontology%20Development.html" TargetMode="External"/><Relationship Id="rId8" Type="http://schemas.openxmlformats.org/officeDocument/2006/relationships/hyperlink" Target="file:///../../../Protege/html%20files/Ontology%20Diff%20and%20Alignment.html" TargetMode="External"/><Relationship Id="rId9" Type="http://schemas.openxmlformats.org/officeDocument/2006/relationships/hyperlink" Target="file:///../../../Protege/html%20files/Ontology%20Visualization.html" TargetMode="External"/><Relationship Id="rId10" Type="http://schemas.openxmlformats.org/officeDocument/2006/relationships/hyperlink" Target="file:///../../../Protege/html%20files/Programmatic%20Access.html" TargetMode="External"/><Relationship Id="rId11" Type="http://schemas.openxmlformats.org/officeDocument/2006/relationships/hyperlink" Target="file:///../../../Protege/html%20files/Web%20Access.html" TargetMode="Externa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ata.html" TargetMode="External"/><Relationship Id="rId2" Type="http://schemas.openxmlformats.org/officeDocument/2006/relationships/hyperlink" Target="file:///../../../Protege/html%20files/Clinical%20Information.html" TargetMode="External"/><Relationship Id="rId3" Type="http://schemas.openxmlformats.org/officeDocument/2006/relationships/hyperlink" Target="file:///../../../Protege/html%20files/Aggregate%20Human%20Data.html" TargetMode="External"/><Relationship Id="rId4" Type="http://schemas.openxmlformats.org/officeDocument/2006/relationships/hyperlink" Target="file:///../../../Protege/html%20files/Individual%20Human%20Data.html" TargetMode="External"/><Relationship Id="rId5" Type="http://schemas.openxmlformats.org/officeDocument/2006/relationships/hyperlink" Target="file:///../../../Protege/html%20files/Nonhuman%20Data.html" TargetMode="External"/><Relationship Id="rId6" Type="http://schemas.openxmlformats.org/officeDocument/2006/relationships/hyperlink" Target="file:///../../../Protege/html%20files/Experimental%20Data.html" TargetMode="External"/><Relationship Id="rId7" Type="http://schemas.openxmlformats.org/officeDocument/2006/relationships/hyperlink" Target="file:///../../../Protege/html%20files/Gene-Phenotype%20Association%20DB.html" TargetMode="External"/><Relationship Id="rId8" Type="http://schemas.openxmlformats.org/officeDocument/2006/relationships/hyperlink" Target="file:///../../../Protege/html%20files/Medical%20Images%20DB.html" TargetMode="External"/><Relationship Id="rId9" Type="http://schemas.openxmlformats.org/officeDocument/2006/relationships/hyperlink" Target="file:///../../../Protege/html%20files/Molecular%20Interaction%20DB.html" TargetMode="External"/><Relationship Id="rId10" Type="http://schemas.openxmlformats.org/officeDocument/2006/relationships/hyperlink" Target="file:///../../../Protege/html%20files/Ontologies.html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issemination.html" TargetMode="External"/><Relationship Id="rId2" Type="http://schemas.openxmlformats.org/officeDocument/2006/relationships/hyperlink" Target="file:///../../../Protege/html%20files/Interactive%20Web-Based%20Tools.html" TargetMode="External"/><Relationship Id="rId3" Type="http://schemas.openxmlformats.org/officeDocument/2006/relationships/hyperlink" Target="file:///../../../Protege/html%20files/Publication.html" TargetMode="External"/><Relationship Id="rId4" Type="http://schemas.openxmlformats.org/officeDocument/2006/relationships/hyperlink" Target="file:///../../../Protege/html%20files/Training%20Courses.html" TargetMode="External"/><Relationship Id="rId5" Type="http://schemas.openxmlformats.org/officeDocument/2006/relationships/hyperlink" Target="file:///../../../Protege/html%20files/Web%20Postings.html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Data%20Management.html" TargetMode="External"/><Relationship Id="rId3" Type="http://schemas.openxmlformats.org/officeDocument/2006/relationships/hyperlink" Target="file:///../../../Protege/html%20files/Ontology%20Development%20and%20Management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ules for a Tool and Data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424-C0BE-46C7-B4DE-C63D3425A5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ature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enomic &amp; Phenotypic Data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age Process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etwork character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e-Process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gulatory/Signaling network reconstru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equence Annot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imul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oftware Engineering and Development Tool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tatistical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Structure-based protein classific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oolk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(4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User and developer document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Visual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600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9F7-E263-4F23-8426-EDB807330A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Mode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 terms with ‘and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‘or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‘and/or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AC1-FD99-41B5-99FB-AB01D6ADD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ature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ape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ttern Recog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enomic &amp; Phenotypic Data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mage 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2 instan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tlas Gen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ortical Mod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eg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twork character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re-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ata Trans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Spectral Trans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ourier Tran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avelet Tran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Fil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kull Stri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homogeneit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Cor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AB9-95D3-495E-9072-2BC385A5B3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gulatory/Signaling network re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quence Anno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m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ftware Engineering and Development Too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ross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LanguageWr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1 inst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ross-Platform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teg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Graphical e.g., HIVE Pip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Grid Computing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Mapper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e.g.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rainGrap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BrainM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or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source Integration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sting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733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2743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4D6-5D1C-4964-858B-BB30B58907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ion is_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ftware Engineering and Development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0DB-5B70-41FB-ABA0-51ED8A2FA4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atistical Analys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.g., 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ructure-based protein classific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olki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4 instan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ser and developer document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Visualiz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inical Charts e.g., Demographic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raph Viewer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yperbolic Graph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ierarchical Tre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Sectional View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old Viewers 2D, 3D, 4D, 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E00-F8C0-4080-A22F-8037371732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 Mana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ta Stor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ta Transf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formation retrieval, traversal and query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ntology Development and Mana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ata Annot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ntology Developm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ntology Diff and Alignm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ntology Visualiz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rogrammatic Acc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447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C1F-3C20-4A6C-A8B6-7EABA7E59C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n’t be afraid to write down what seems triv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ata management is_a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ata management tool is_a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C03-2A73-4D53-B95C-51FA314B8F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ns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H) (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Descripto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Medicus Descrip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thropology, Education, Sociology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 Phenomena (MeSH Category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 Sc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6F8-6014-4493-B572-DC8FCFC44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ns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O-R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is_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ef every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al-world examples, e.g. actual software tools, actual bodies of data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917-9490-423F-B4A0-B1AA6150E5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kinds of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ance, instance&gt; 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ance, type&gt; 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ype, type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7FE-AA2A-432D-800E-B730E3060B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nical Inform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ggregate 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dividual 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on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xperimental Dat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Gene-Phenotype Association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edical Images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olecular Interaction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ntologi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5627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66E-53DD-4184-B173-6339F26747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on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should be in th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tologies is_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BD7-5F28-4A43-AFC3-A98A5C115C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active Web-Based Tool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bl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raining Cours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eb Posting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blication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ve web-based tools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23623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819-D683-48B2-A99C-8A2B708AD5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should be count 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ve web-based tools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2C3-33AD-4624-B69F-0DE795AEFE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ntology Development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931-5FE0-40F5-8E4E-7CFB0B95BE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1:06:30Z</dcterms:created>
  <dc:creator>phismith</dc:creator>
  <dc:description/>
  <dc:language>en-US</dc:language>
  <cp:lastModifiedBy>phismith</cp:lastModifiedBy>
  <dcterms:modified xsi:type="dcterms:W3CDTF">2006-03-25T21:39:23Z</dcterms:modified>
  <cp:revision>6</cp:revision>
  <dc:subject/>
  <dc:title>NCBC_SDIWG_Data-n-Software_Ontology</dc:title>
</cp:coreProperties>
</file>